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252A-9D45-4FBD-8C40-5829A451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CCBA5-242F-4A34-879E-6DF5DD4B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4B326-316B-4B15-A9BD-452A0984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686F9-00C8-44BA-93FA-91102935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6795-19C5-448C-8F56-767A8BF0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D45B-6FDB-4C62-9C0D-99FD37E5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2644-F757-4BC1-8AB5-696DBA15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7301-9E14-4C58-B8F7-AA1B87AA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CEE8-FA5C-42D5-8A44-44B1CB6B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61BA-5CBF-42DC-9FCC-AA7D9802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907C-EC6B-48D9-8ACA-94B13361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D838-41E0-49FB-87F8-C3CBF577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421B-54B3-427D-9997-D1FC4D79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21FA-AAF3-4D25-BDBB-3AD9BD33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E0C5-4E9A-420F-81D3-8170CC75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B252-09D4-48EF-9DEE-41455AD7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0196-0D8C-4382-B02A-25E12455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A5353-2770-45DE-B615-7874A636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A832-DF5D-4D25-85C4-2A8E846B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5C333-AC09-4445-88A8-5B8B2530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864C4-2E81-4B90-90F9-0F154584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91D6B-93A9-4E76-9CBA-7571521B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AA10-D180-4130-832E-8E6079B3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8704F-E55B-4050-BA8B-40DB01C7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4DAF-01CA-4D9B-B088-1DAFA3A36A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38E8-2BF3-430B-9ABE-533545CD29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bae8ba"/>
                </a:solidFill>
                <a:latin typeface="Garamond"/>
              </a:rPr>
              <a:t>Chapter One</a:t>
            </a:r>
            <a:br>
              <a:rPr sz="7500"/>
            </a:br>
            <a:r>
              <a:rPr b="1" i="1" lang="en-US" sz="4000" spc="-1" strike="noStrike">
                <a:solidFill>
                  <a:srgbClr val="bae8ba"/>
                </a:solidFill>
                <a:latin typeface="Garamond"/>
              </a:rPr>
              <a:t>Functions and Applications</a:t>
            </a:r>
            <a:endParaRPr b="1" lang="en-US" sz="40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bae8ba"/>
                </a:solidFill>
                <a:latin typeface="Garamond"/>
              </a:rPr>
              <a:t>Lesson 1.1</a:t>
            </a:r>
            <a:br>
              <a:rPr sz="7500"/>
            </a:br>
            <a:r>
              <a:rPr b="1" lang="en-US" sz="7500" spc="-1" strike="noStrike">
                <a:solidFill>
                  <a:srgbClr val="bae8ba"/>
                </a:solidFill>
                <a:latin typeface="Garamond"/>
              </a:rPr>
              <a:t>part one</a:t>
            </a:r>
            <a:endParaRPr b="1" lang="en-US" sz="75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Function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relationship where every value of x can only go to one value of 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Ways to check for a function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ck input-output matchu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tical line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st algebraically (solve for 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Is each a function?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 = 3x +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x + 2y =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 = 2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10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 = (2x – 4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 = 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Is this a function?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981080"/>
          <a:ext cx="8229240" cy="2667240"/>
        </p:xfrm>
        <a:graphic>
          <a:graphicData uri="http://schemas.openxmlformats.org/drawingml/2006/table">
            <a:tbl>
              <a:tblPr/>
              <a:tblGrid>
                <a:gridCol w="1645920"/>
                <a:gridCol w="1645920"/>
                <a:gridCol w="1645560"/>
                <a:gridCol w="1645920"/>
                <a:gridCol w="1645920"/>
              </a:tblGrid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bae8ba"/>
                </a:solidFill>
                <a:latin typeface="Garamond"/>
              </a:rPr>
              <a:t>Homework:</a:t>
            </a:r>
            <a:br>
              <a:rPr sz="7500"/>
            </a:br>
            <a:r>
              <a:rPr b="1" lang="en-US" sz="7500" spc="-1" strike="noStrike">
                <a:solidFill>
                  <a:srgbClr val="bae8ba"/>
                </a:solidFill>
                <a:latin typeface="Garamond"/>
              </a:rPr>
              <a:t>Page 82</a:t>
            </a:r>
            <a:br>
              <a:rPr sz="7500"/>
            </a:br>
            <a:r>
              <a:rPr b="1" lang="en-US" sz="7500" spc="-1" strike="noStrike">
                <a:solidFill>
                  <a:srgbClr val="bae8ba"/>
                </a:solidFill>
                <a:latin typeface="Garamond"/>
              </a:rPr>
              <a:t>#1-9,13-23</a:t>
            </a:r>
            <a:endParaRPr b="1" lang="en-US" sz="75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68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68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38:36Z</dcterms:created>
  <dc:creator>jnewman</dc:creator>
  <dc:description/>
  <dc:language>en-US</dc:language>
  <cp:lastModifiedBy>abeason</cp:lastModifiedBy>
  <dcterms:modified xsi:type="dcterms:W3CDTF">2009-04-16T12:23:45Z</dcterms:modified>
  <cp:revision>4</cp:revision>
  <dc:subject/>
  <dc:title>Lesson 1.1 part one</dc:title>
</cp:coreProperties>
</file>